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7E5-EB15-43FC-B85B-764ED650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815-E812-4676-AFEC-FFE48984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3C9-CE71-42B2-81AE-4D5C5C50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FF8-7DFB-4856-AEF9-7509778C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ED77-6139-4B9D-ABC9-22D517A0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638-58DC-4BA2-B23B-65833119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118D-088C-4273-A658-8675C802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85B4-16C7-4B9E-9CC1-3D16469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5C53-9476-4374-840D-A1A1091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99A-069E-4EB7-BCD6-14378784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C2D-E8C4-4956-BFD9-C5A9546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9D6-254D-40CE-A246-AB9F84ED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2B5C-9679-4C0A-AB59-CFBFF93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CADF-D527-4F7F-AEB5-E69F208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F6B-7192-42DE-B451-A714916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E1E-D279-4D9E-99A3-8E7DDC5D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D045-ED43-41D8-B257-19EFC62C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157-D380-4FD2-A116-105C4A8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A10-1358-4B1A-B9D0-0E70707B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9BF-2977-4A38-93E3-65C127B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D1E-3367-41E3-9987-12FC944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7A2-0340-4513-80F1-75D7C34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178-48F1-4133-9886-8944DEA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24F-F8F9-4A22-B804-C667676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129-C991-450F-9DB7-3C115A47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472-8D49-4BC3-A56B-7572D4B5CC4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in Thermal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ames Prescott Jo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18 – 188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tish physic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hip between heat and other forms of energy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30" descr="11p353"/>
          <p:cNvPicPr/>
          <p:nvPr/>
        </p:nvPicPr>
        <p:blipFill>
          <a:blip r:embed="rId1"/>
          <a:stretch/>
        </p:blipFill>
        <p:spPr>
          <a:xfrm>
            <a:off x="5265720" y="2017800"/>
            <a:ext cx="3567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 substance requires a unique amount of energy per unit mass to change the temperature of that substance by 1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heat, c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a measure of this am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209680" y="5105520"/>
                <a:ext cx="19051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/ kg 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rical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 / g 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 and 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 = m c Δ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T is always the final temperature minus the initial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mperature increases, ΔT and ΔQ are considered to be positive and energy flows into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mperature decreases, ΔT and ΔQ are considered to be negative and energy flows out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onsequence of Different Specific Hea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has a high specific heat compared to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a hot day, the air above the land warms f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rmer air flows upward and cooler air moves toward the b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1102"/>
          <p:cNvPicPr/>
          <p:nvPr/>
        </p:nvPicPr>
        <p:blipFill>
          <a:blip r:embed="rId1"/>
          <a:stretch/>
        </p:blipFill>
        <p:spPr>
          <a:xfrm>
            <a:off x="5145120" y="2373480"/>
            <a:ext cx="38098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technique for determining the specific heat of a sub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alorime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vessel that is a good insulator which allows a thermal equilibrium to be achieved between substances without any energy loss to the enviro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performed using a calori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 applies to the isolated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that leaves the warmer substance equals the energy that enters the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co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ive sign keeps consistency in the sign convention of Δ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ry with More Than Two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 it may be difficult to determine which materials gain heat and which materials lose 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star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Q = m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don’t have to determine before using the equation which materials will gain or lose h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ase 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n the physical characteristics of the substance change from one form to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phases changes 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id to liquid – mel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quid to gas – bo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changes involve a change in the internal energy, bu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 change in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tent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a phase change, the amount of heat is given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 = ±m 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atent he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sub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nt means hid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 depends on the substance and the nature of the phas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 positive sign if you are adding energy to the system and a negative sign if energy is being removed from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GI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The temperature at which the Fahrenheit scale reading is twice that of the Celsius scale reading i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1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3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-3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tent Hea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latent heat are J / k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tent heat of fus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used for melting or fr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tent heat of vaporiz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used for boiling or conden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11.2 gives the latent heats for various subst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blim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substances will go directly from solid to gaseous ph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passing through the liquid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proces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a latent heat of sublimation associated with this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 of Ice to Ste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5" name="Picture 4" descr="1103"/>
          <p:cNvPicPr/>
          <p:nvPr/>
        </p:nvPicPr>
        <p:blipFill>
          <a:blip r:embed="rId1"/>
          <a:stretch/>
        </p:blipFill>
        <p:spPr>
          <a:xfrm>
            <a:off x="179280" y="190980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rming 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5105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with one gram of ice at –30.0º 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ring A, the temperature of the ice changes from –30.0º C to 0º 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add 62.7 J of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5410080" y="1295280"/>
          <a:ext cx="2959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95280"/>
                    <a:ext cx="2959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lting 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at 0º C, the phase change (melting)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emperature stays the same although energy is still being ad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s 333 J of 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5715000" y="762120"/>
          <a:ext cx="2679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2679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rming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ween 0º C and 100º C, the material is liquid and no phase changes take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added increases the temp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19 J of energy are ad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6248520" y="838080"/>
          <a:ext cx="25905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838080"/>
                    <a:ext cx="2590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oiling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100º C, a phase change occurs (boil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does not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Q = m Lv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260 J of energy are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5145120" y="2849400"/>
          <a:ext cx="3809880" cy="24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49400"/>
                    <a:ext cx="380988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ing Ste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2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ter all the water is converted to steam, the steam will heat 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phase change occ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ded energy goes to increasing the temp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raise the temperature of the steam to 120°, 40.2 J of energy are nee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7238880" y="533520"/>
          <a:ext cx="140976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33520"/>
                    <a:ext cx="140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lumn for each qua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ow for each phase and/or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final column for the combination of quant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consistent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i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Conservation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s in energy are given as Q=mcΔT for processes with no phase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Q = m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Q = m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re is a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careful of 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T i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 Attack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0 liter of a gas at STP expands to 1.5 liters and 1.2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. The final temperature of the gas i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3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7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26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07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thods of Heat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know the rate at which energy is transfer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know the mechanisms responsible for the transf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s inclu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nsfer can be viewed on an atomic sc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an exchange of energy between microscopic particles by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energetic particles gain energy during collisions with more energetic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 of conduction depends upon the characteristics of the sub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vibrate about their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les near the stove coil vibrate with larger amplitu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collide with adjacent molecules and transfer some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ually, the energy travels entirely through the pan and its hand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1104"/>
          <p:cNvPicPr/>
          <p:nvPr/>
        </p:nvPicPr>
        <p:blipFill>
          <a:blip r:embed="rId1"/>
          <a:stretch/>
        </p:blipFill>
        <p:spPr>
          <a:xfrm>
            <a:off x="5145120" y="2658960"/>
            <a:ext cx="38098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metals are good cond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ontain large numbers of electrons that are relatively free to move through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transport energy from one region to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 can occur only if there is a difference in temperature between two parts of the conducting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ab allows energy to transfer from the region of higher temperature to the region of lower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1471680" y="5548320"/>
          <a:ext cx="33051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5548320"/>
                    <a:ext cx="3305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8" descr="1105"/>
          <p:cNvPicPr/>
          <p:nvPr/>
        </p:nvPicPr>
        <p:blipFill>
          <a:blip r:embed="rId3"/>
          <a:stretch/>
        </p:blipFill>
        <p:spPr>
          <a:xfrm>
            <a:off x="5160960" y="2017800"/>
            <a:ext cx="377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equation explan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is the cross-sectiona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= Δx is the thickness of the slab or the length of a r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is in Watts when Q is in Joules and t is in sec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conductiv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able 11.3 for some condu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onductors have high k values and good insulators have low k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Insul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tances are rated by thei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 valu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L /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1.4 for some R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multiple layers, the total R value is the sum of the R values of each lay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nd increases the energy loss by conduction in a h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 and Insulation with Multiple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portion will have a specific thickness and a specific thermal condu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of conduction through each portion is eq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Material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through the multiple materials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the temperatures at the outer extremities of the compound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1752480" y="3048120"/>
          <a:ext cx="435924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35924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transferred by the movement of a sub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movement results from differences in density,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atural co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movement is forced by a fan or a pump,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ced 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bjects of different temperatures are placed in thermal contact, the temperature of the warmer decreases and the temperature of the cooler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exchange ceases when the objects reach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cept of energy was broadened from just mechanical to include in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Conservation of Energy a universal law of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directly above the flame is warmed and exp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the air decreases, and it 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of air warms the hand as it moves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1109"/>
          <p:cNvPicPr/>
          <p:nvPr/>
        </p:nvPicPr>
        <p:blipFill>
          <a:blip r:embed="rId1"/>
          <a:stretch/>
        </p:blipFill>
        <p:spPr>
          <a:xfrm>
            <a:off x="5383080" y="2017800"/>
            <a:ext cx="33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applic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iling 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wel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ling automobile eng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al blooms in ponds and lak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Current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diator warms the air in the lower region of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rm air is less dense, so it rises to the ce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er, cooler air s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tinuous air current pattern is set up as sh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1110"/>
          <p:cNvPicPr/>
          <p:nvPr/>
        </p:nvPicPr>
        <p:blipFill>
          <a:blip r:embed="rId1"/>
          <a:stretch/>
        </p:blipFill>
        <p:spPr>
          <a:xfrm>
            <a:off x="5145120" y="2381400"/>
            <a:ext cx="38098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tion does not require physical cont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bjects radiate energy continuously in the form of electromagnetic waves due to thermal vibrations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 of radiation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efan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ctromagnetic waves carry the energy from the fire to the h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hysical contact i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be accounted for by conduction or 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1112"/>
          <p:cNvPicPr/>
          <p:nvPr/>
        </p:nvPicPr>
        <p:blipFill>
          <a:blip r:embed="rId1"/>
          <a:stretch/>
        </p:blipFill>
        <p:spPr>
          <a:xfrm>
            <a:off x="3297240" y="2017800"/>
            <a:ext cx="35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wer is the rate of energy transfer, in Wa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σ = 5.669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is the surface area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is a constant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miss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varies from 0 to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is the temperature in Kelv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Object 0"/>
          <p:cNvGraphicFramePr/>
          <p:nvPr/>
        </p:nvGraphicFramePr>
        <p:xfrm>
          <a:off x="1600200" y="1905120"/>
          <a:ext cx="267984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267984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Absorption and  Emission by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its surroundings, the rate at which the object at temperature T with surroundings at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adiates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object is in equilibrium with its surroundings, it radiates and absorbs at the same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temperature will not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Object 0"/>
          <p:cNvGraphicFramePr/>
          <p:nvPr/>
        </p:nvGraphicFramePr>
        <p:xfrm>
          <a:off x="1981080" y="3505320"/>
          <a:ext cx="358164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505320"/>
                    <a:ext cx="35816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Absorbe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deal absorb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fined as an object that absorbs all of the energy incident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ype of object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lack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deal absorber is also an ideal radiator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Refl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deal reflector absorbs none of the energy incident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ack fabric acts as a good absor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 fabric is a better refl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ount of energy radiated by an object can be measured with a thermogra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dy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diation thermometer measures the intensity of the infrared radiation from the eard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 Compared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to distinguish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not interchange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mean very different things when used in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ing Energy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83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war flask/thermos bot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ed to minimize energy transfer to surrou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between walls is evacuated to minimize conduction and conv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lvered surface minimizes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k size is redu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7" descr="1115"/>
          <p:cNvPicPr/>
          <p:nvPr/>
        </p:nvPicPr>
        <p:blipFill>
          <a:blip r:embed="rId1"/>
          <a:stretch/>
        </p:blipFill>
        <p:spPr>
          <a:xfrm>
            <a:off x="5886360" y="2017800"/>
            <a:ext cx="23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obal Warm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nhouse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ble light is absorbed and re-emitted as infrared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ction currents are inhibited by th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th’s atmosphere is also a good transmitter of visible light and a good absorber of infrared radi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5,8,13,15,21,23,31,3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U, is the energy associated with the microscopic components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kinetic and potential energy associated with the random translational, rotational and vibrational motion of the atoms or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includes any potential energy bonding the particle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ransfer of energy between a system and its environment because of a temperature difference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mbol Q is used to represent the amount of energy transferred by heat between a system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or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historical unit, before the connection between thermodynamics and mechanics was recogniz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amount of energy necessary to raise the temperature of 1 g of water from 14.5° C to 15.5° C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lorie (food calorie) is 1000 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Hea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 Customary Unit – B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TU stands for British Thermal Un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T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amount of energy necessary to raise the temperature of 1 lb of water from 63° F to 64° 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cal = 4.186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chanical Equivalent of 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1T22:41:27Z</dcterms:created>
  <dc:creator>Marilyn Akins</dc:creator>
  <dc:description/>
  <dc:language>en-US</dc:language>
  <cp:lastModifiedBy>gandella</cp:lastModifiedBy>
  <dcterms:modified xsi:type="dcterms:W3CDTF">2009-11-13T12:41:22Z</dcterms:modified>
  <cp:revision>20</cp:revision>
  <dc:subject/>
  <dc:title>Chapter 11</dc:title>
</cp:coreProperties>
</file>